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D5A7-1FD4-48E4-BF4C-774FC0C4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BB66-B035-4007-809F-7C63F72B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B1950-FF68-41B8-AEF6-C5259D9A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1A66D-B62B-4E71-AEEA-2CD27950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6CC6D-1C62-4124-A493-3ABDCABB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F2EB1-5A77-4CB9-865F-9C8C0645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8004E-1A71-4CF7-840B-2FC28403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50386-6354-4AFB-BCAA-37F27ABF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16C0F-A5A1-4A7F-93E2-60E10EB1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7C142-2BFD-4D73-9068-247979C2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D4B73-7578-4A18-9E2D-515E0C2B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46BEC7-CAEC-4CE5-9640-6136F42B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A90-0776-48F0-9494-9222A6CD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EA1731-1965-4FAC-884A-4E789BC0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1C582F-2E59-4911-8F09-94D6EA68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8872AF-4BBF-46A0-AFE6-D3B1178A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AFF234-3A24-434E-91D0-EE51F796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2D3620-3662-4E78-AE39-29F539D3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93DB3E-CFA7-4F02-86FA-4B058424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19066C-F8E6-46BF-A0F8-605F497D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6D7D11-DC06-457B-9796-1E81DD74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842614-797B-4827-BE41-ED28414E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BD6DDF-58E7-47DA-BBCF-D27E8CFA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FDB-71FC-4586-BF0B-DC87BDF0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54C906-10CB-415B-8534-71B61EEC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23825-08D2-4834-A514-8D204F7A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D12B4-2803-4D3E-A330-CCCB51E4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85EF1-F6B2-44A5-8753-27570FF0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18A64-CED2-4655-BE36-F7CFA9C6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88F79-6415-450A-8951-2F22E52A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60D78-91BD-48C0-A537-0BBE880B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2EBFD-BE8D-45C3-8B0D-EC62BC44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74C75-45AE-4B22-9E9B-83B50D67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0831A-3EE4-4BA9-8D91-029641F0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8492-F19B-4301-9CCE-A6AD415E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BAD7B-0656-4B4F-A98D-52C15D57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F9845-AF18-4EF7-A280-E7B7DD4A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DDAB1-5C74-47C5-A4DB-F6D6530B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53203-0534-4504-9A6D-FD7B53F8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3D873-42AF-477C-AE43-01E4513D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98A73-CCE0-435C-BF10-C682C52B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EB3BE-0D81-4D32-B71A-DBB23BA3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DBC0A-3EE1-44F3-BC22-7BFCA4CE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32348-E4F7-48B2-8496-A3446EAC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5D8C1-532C-46FA-B763-59B27973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79D3-EA44-4242-BC96-2005CE2C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A5430-395A-48C5-B952-1A21FAEE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5AADC-E081-425B-A34F-D7783F91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4A4AD-D8AE-462D-9213-D7004679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C470C-CEA7-47F9-9F80-6051E898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034DC-762F-4673-9095-3BF6CFDB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ADC9-025D-4D1C-AE6F-6AB83D0E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8552-BB86-423B-9924-B788834F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6088-9140-4F1C-AFF9-D8832F43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A5B8-5915-4E09-9630-BF29388B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4A55-89F0-4715-9D51-0E04E934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808-EA5A-43E5-9555-58ACA3F2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7B59-E04E-4955-BE9F-A5DB1B6F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A18B-6E01-423D-A6D6-D6F78B56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FB4D-28D8-4716-B691-A6E407C1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B9A8-DC9F-4A74-BEC2-B8C682E5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C417-94AF-4975-8B16-62C9B028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E122C-9E3E-4031-85A9-37B68967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63BBD-956F-4E18-B7CA-A1758166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CB888-3ADF-4E60-8541-053BCB3D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2262D-6B4F-489F-87C0-7B7242FF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A67CB-9F7F-4644-96F6-B63625C7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008A-6E50-4CEC-886F-3A9D53BE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18889-DAE9-4DD7-864E-4168FDF1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37E4E-A9FD-4595-A259-1FFF96B4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FFFF1-BB1D-47BE-BC18-7EB5ECE5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7AAA1-59D5-4D22-B963-2329E074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308CB-75D0-4B34-8EAC-89DE48AA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AF06D-E423-4189-928D-E8CF8DB6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C77D6-0A76-4077-83D7-9F9911F0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78D8E-E7AC-4FF7-B726-6098A4FB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0F132-AD02-404B-9FB9-3CA2AEBD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21E86-52C0-4844-93A6-7EF359D8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C29-ED5B-4545-B2F7-B77AC335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47935-142F-49A5-82DE-2D98BECE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29634-61F8-4BC2-B37E-B1B0600A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C165E-6E2E-4C0B-9789-23CA33B4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35053-5864-4424-9073-AEF22938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90ADE-405C-49C8-9289-E56F1F63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8A671-7E15-4E53-875D-62AF7D2F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75F76-9FFF-4810-9B83-5AD653D8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A6341-FF36-405A-A7C5-7BED3242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D7144-9FF7-41EF-9267-F148127F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A35A7-4F2D-4A02-B7CD-4D44F9B6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2754-2921-453B-8F98-09CF6414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7E335-A8A8-4586-ADBD-F1A32AD7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41979-5C8B-40C7-B66F-E4D8CA00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04A2D-EC47-4E8A-A917-F7F7BA4C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8CD56-75B2-456A-8977-92F1FC16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03D59-E235-4489-A0A6-5F1FC754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0C099-7255-4017-A72C-C9FDB4C2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CCB27-44B2-4343-9B05-8211F510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EF3FA-BE92-48D7-B052-C5A315B3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B6896-C943-46BF-AFE3-9324B071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19BB8-6D5C-4C60-AADE-00A1C922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BB4-BC73-46BA-85D2-3D687744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DE12D-E6EE-4D05-BEE3-C3305EAA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FCA1B-50D3-40AF-9592-107325FF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99BA1-9CB9-41F7-81FD-DE098387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D9D79-AB31-4EB9-B710-D87F7275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A1E24-65F7-4686-AD2E-80645A10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08AAE-E617-4C73-8B13-CF37833A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2215E-D8B4-44E1-9CEF-B0E1EDC5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3252A-C9D8-41A9-8868-40EA0235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5C4B2-5E2E-48D7-BAF8-5AFEF7CD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D74D7-DB80-4937-B0D9-E0B16EB1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CFA0-4FA8-45D9-ACCE-B4035EA1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65C50-70FE-4767-BC34-8788EBE7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36DF7-A637-426A-916E-FB9FDC87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E2691-31B2-47C6-A119-D7D5CA6F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CCBCE-03D3-4F5B-8DFE-91FAA016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93221-1E8A-4BF7-88DD-D87B91D1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D1C20-4552-464E-896F-4B9D85FF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C5BF6-EAE7-41F1-A15E-878FE83A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A5961-9578-430D-BB6D-11B07E34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DD0BC-D8B8-4831-A794-08B929D8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7CC79-BCC7-46C4-B406-71089368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291-1D97-4CB0-B9B7-E5B0A845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2DF12-8A37-4141-A5B0-A6CC389E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8B4CA-0121-4E75-A3CA-A8CED513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D2368-3F19-43A5-A483-6EE46604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799A6-C336-42BD-AC8A-D448B1FF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6F07A-CA94-48CF-87EB-0FC8D807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78C5C-5637-414C-915F-1ED2E29B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7631A-4825-4965-ADEF-80263450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95BE5-DA21-4CDF-986B-6BD66D0A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13345-6C42-44B5-B23A-22A24242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F19C6-6555-4AD7-BB16-B524D844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0EA7-7B38-457E-B003-C6D4BCE9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9F588-849E-419F-9D20-ADA488B4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5BF7C-CE23-460B-A22E-9D426E52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C3789-601D-4A1C-BD0E-42A0411D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E23E1-D496-40D6-A1E2-0D7B44C7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D5F74-B9F2-4BD9-88EC-D412EF7B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F335E-63FE-4369-9A99-29ABBF6E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1298F-40FB-4C88-9FED-17A83BF6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D84A6-475C-48F9-8848-55371909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34C45-1CA9-41A1-BD17-0D02F62D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EA0AD-E414-4631-A7CB-45B5CDDB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B4E8-09D0-422C-ABCF-136E7D5A6602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29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E654-FCDF-483B-BCF1-5FA4C50DDE3D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ftr" idx="30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62CD-F291-49EC-9ADC-242BBD559978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8C02-33D2-45EF-AB3B-243A36737D32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2"/>
          <p:cNvSpPr/>
          <p:nvPr/>
        </p:nvSpPr>
        <p:spPr>
          <a:xfrm>
            <a:off x="842976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728676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728676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7572240" y="2786040"/>
            <a:ext cx="21456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7572240" y="3357720"/>
            <a:ext cx="21456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24"/>
          <p:cNvSpPr/>
          <p:nvPr/>
        </p:nvSpPr>
        <p:spPr>
          <a:xfrm>
            <a:off x="785808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785808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842976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7"/>
          <p:cNvSpPr/>
          <p:nvPr/>
        </p:nvSpPr>
        <p:spPr>
          <a:xfrm>
            <a:off x="814392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814392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7572240" y="3071880"/>
            <a:ext cx="21456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785808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>
            <a:off x="842976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2"/>
          <p:cNvSpPr/>
          <p:nvPr/>
        </p:nvSpPr>
        <p:spPr>
          <a:xfrm>
            <a:off x="814392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33"/>
          <p:cNvSpPr/>
          <p:nvPr/>
        </p:nvSpPr>
        <p:spPr>
          <a:xfrm>
            <a:off x="728676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BA88-F72A-409E-9F12-AF4318E5ABC1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4D1A-DF2D-41F6-8131-B9C5B5DFAC64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traight Connector 12"/>
          <p:cNvSpPr/>
          <p:nvPr/>
        </p:nvSpPr>
        <p:spPr>
          <a:xfrm>
            <a:off x="714240" y="5276880"/>
            <a:ext cx="7500960" cy="1440"/>
          </a:xfrm>
          <a:prstGeom prst="line">
            <a:avLst/>
          </a:prstGeom>
          <a:ln w="9360">
            <a:solidFill>
              <a:srgbClr val="ffff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B160-9D97-4B6C-8386-C944723F9169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F1B0-BF6E-415A-B875-90F224C60E89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C704-7AC5-4B60-ADE9-43230346C2F4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55DB-C6F4-4DD6-BF7C-9636DED3D09D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AD0C-B92E-4C6C-B7D4-75EBDD33D97E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D3D0-B672-48E4-B286-DDFBFD1EC801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s://www.youtube.com/watch?v=2rzxAyY7D7k" TargetMode="External"/><Relationship Id="rId3" Type="http://schemas.openxmlformats.org/officeDocument/2006/relationships/hyperlink" Target="http://oracleofbacon.org/" TargetMode="External"/><Relationship Id="rId4" Type="http://schemas.openxmlformats.org/officeDocument/2006/relationships/hyperlink" Target="http://www.barabasilab.com/pubs/CCNR-ALB_Publications/200305-01_SciAmer-ScaleFree/200305-01_SciAmer-ScaleFree.pdf" TargetMode="External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Title 1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772400" cy="146844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eachers Teaching With Technolog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2017 Annual Meeting – Chicago, I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Ray Barton, Olympus High, SLC, U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9558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Six Degrees of Kevin Bac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5" name="Six Degrees Part 4_WMV V9.wmv" descr=""/>
          <p:cNvPicPr/>
          <p:nvPr/>
        </p:nvPicPr>
        <p:blipFill>
          <a:blip r:embed="rId2"/>
          <a:stretch/>
        </p:blipFill>
        <p:spPr>
          <a:xfrm>
            <a:off x="1600200" y="231624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itle 1" descr=""/>
          <p:cNvPicPr/>
          <p:nvPr/>
        </p:nvPicPr>
        <p:blipFill>
          <a:blip r:embed="rId1"/>
          <a:stretch/>
        </p:blipFill>
        <p:spPr>
          <a:xfrm>
            <a:off x="457200" y="51264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65120" y="129492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mall World, Scale Fre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atts, Strogatz, Barabasi, Bonabeau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Very small average shortest path lengt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arge clustering coefficient  (cliques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ower distribution of nod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656240" y="129492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Random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5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rdos-Renyi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mall average shortest path length – log(n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mall clustering coeffici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Normal distribution of nod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9144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pping the Interne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1" name="Six Degrees Part 3_WMV V9.wmv" descr=""/>
          <p:cNvPicPr/>
          <p:nvPr/>
        </p:nvPicPr>
        <p:blipFill>
          <a:blip r:embed="rId2"/>
          <a:stretch/>
        </p:blipFill>
        <p:spPr>
          <a:xfrm>
            <a:off x="1828800" y="210024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14256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"/>
          <p:cNvPicPr/>
          <p:nvPr/>
        </p:nvPicPr>
        <p:blipFill>
          <a:blip r:embed="rId2"/>
          <a:stretch/>
        </p:blipFill>
        <p:spPr>
          <a:xfrm>
            <a:off x="1752480" y="228600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91440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ub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80-20 ru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cale Fre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(cx)=k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(x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12"/>
          <p:cNvSpPr/>
          <p:nvPr/>
        </p:nvSpPr>
        <p:spPr>
          <a:xfrm>
            <a:off x="4429800" y="1002960"/>
            <a:ext cx="2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13" descr=""/>
          <p:cNvPicPr/>
          <p:nvPr/>
        </p:nvPicPr>
        <p:blipFill>
          <a:blip r:embed="rId2"/>
          <a:stretch/>
        </p:blipFill>
        <p:spPr>
          <a:xfrm>
            <a:off x="3581280" y="1828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115740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 txBox="1"/>
          <p:nvPr/>
        </p:nvSpPr>
        <p:spPr>
          <a:xfrm>
            <a:off x="914400" y="2209320"/>
            <a:ext cx="7772400" cy="41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00"/>
              </a:spcBef>
              <a:buClr>
                <a:srgbClr val="92406e"/>
              </a:buClr>
              <a:buSzPct val="85000"/>
              <a:buFont typeface="Corbe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ne fourth as frequ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92406e"/>
              </a:buClr>
              <a:buSzPct val="85000"/>
              <a:buFont typeface="Corbe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alf as frequ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92406e"/>
              </a:buClr>
              <a:buSzPct val="85000"/>
              <a:buFont typeface="Corbe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wice as frequent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92406e"/>
              </a:buClr>
              <a:buSzPct val="85000"/>
              <a:buFont typeface="Corbe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 times as frequ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9144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random network model assumes all nodes exist at the beginning of the network formation.  This is not the cas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scale free networks, older nodes have greater opportunity to acquire link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eferential attachment –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the rich get rich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9144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 txBox="1"/>
          <p:nvPr/>
        </p:nvSpPr>
        <p:spPr>
          <a:xfrm>
            <a:off x="914400" y="207288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sistant to attacks on randomly selected nodes.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80% random node failure but network still func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ulnerable to coordinated attacks on hub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5-15% hub failure can crash the network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cale-Free networks have a threshold of zer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9144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Connected: The Power of Six Degrees  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n-US" sz="14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ttps://www.youtube.com/watch?v=2rzxAyY7D7k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The Oracle of Kevin Bacon 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http://oracleofbacon.org/</a:t>
            </a:r>
            <a:r>
              <a:rPr b="0" i="1" lang="en-US" sz="14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Scale-Free Networks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by Albert-Laszlo Barabasi and Eric Bonabeau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http://www.barabasilab.com/pubs/CCNR-ALB_Publications/200305-01_SciAmer-ScaleFree/200305-01_SciAmer-ScaleFree.pdf</a:t>
            </a: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Watts, D.J. (1999). 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Small Worlds: The Dynamics of Networks Between Order and Randomness.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inceton University Press.  ISBN 0-691-00541-9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Watts, D.J. (2004</a:t>
            </a:r>
            <a:r>
              <a:rPr b="1" lang="en-US" sz="1800" spc="-1" strike="noStrike">
                <a:solidFill>
                  <a:srgbClr val="ffffff"/>
                </a:solidFill>
                <a:latin typeface="Corbel"/>
              </a:rPr>
              <a:t>). </a:t>
            </a:r>
            <a:r>
              <a:rPr b="1" i="1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Six Degrees: the science of a connected age</a:t>
            </a:r>
            <a:r>
              <a:rPr b="1" i="1" lang="en-US" sz="1800" spc="-1" strike="noStrike">
                <a:solidFill>
                  <a:srgbClr val="ffffff"/>
                </a:solidFill>
                <a:latin typeface="Corbe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W.W. Norton &amp; Company.</a:t>
            </a:r>
            <a:r>
              <a:rPr b="1" i="1" lang="en-US" sz="18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ISBN 0-393-32542-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http://olympusmath.wikispaces.com/Six+Degrees+of+Separation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914400"/>
          </a:xfrm>
          <a:prstGeom prst="rect">
            <a:avLst/>
          </a:prstGeom>
          <a:ln w="0">
            <a:noFill/>
          </a:ln>
        </p:spPr>
      </p:pic>
      <p:pic>
        <p:nvPicPr>
          <p:cNvPr id="516" name="Six Degrees Part 1_WMV V9.wmv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63086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8" name=""/>
          <p:cNvGraphicFramePr/>
          <p:nvPr/>
        </p:nvGraphicFramePr>
        <p:xfrm>
          <a:off x="914400" y="1571760"/>
          <a:ext cx="7772400" cy="40798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Netwo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No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Edg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ocie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eo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riendship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ollyw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ct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ov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nternet (virtu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Web Pag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in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nternet (Physic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ou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mmunication Li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ap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it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ellular Metaboli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olecu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iochemical Rea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pidem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os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nfe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ealth Disord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iseas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e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ervous Syste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eur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ynaps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conomic Syste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usiness Ent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o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9144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Title 1" descr=""/>
          <p:cNvPicPr/>
          <p:nvPr/>
        </p:nvPicPr>
        <p:blipFill>
          <a:blip r:embed="rId1"/>
          <a:stretch/>
        </p:blipFill>
        <p:spPr>
          <a:xfrm>
            <a:off x="457200" y="51264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iseases seem to share most of their genes with other diseas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ype 2 diabetes and prostate cancer both appear to be influenced by variation in the 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JAZF1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gen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41356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itle 1" descr=""/>
          <p:cNvPicPr/>
          <p:nvPr/>
        </p:nvPicPr>
        <p:blipFill>
          <a:blip r:embed="rId1"/>
          <a:stretch/>
        </p:blipFill>
        <p:spPr>
          <a:xfrm>
            <a:off x="457200" y="512640"/>
            <a:ext cx="8229600" cy="9144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" descr=""/>
          <p:cNvPicPr/>
          <p:nvPr/>
        </p:nvPicPr>
        <p:blipFill>
          <a:blip r:embed="rId2"/>
          <a:stretch/>
        </p:blipFill>
        <p:spPr>
          <a:xfrm>
            <a:off x="723960" y="1770120"/>
            <a:ext cx="3521160" cy="452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ap of the shortest route from a test website to about 100,000 other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ike colors indicate similar web address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914400"/>
          </a:xfrm>
          <a:prstGeom prst="rect">
            <a:avLst/>
          </a:prstGeom>
          <a:ln w="0">
            <a:noFill/>
          </a:ln>
        </p:spPr>
      </p:pic>
      <p:pic>
        <p:nvPicPr>
          <p:cNvPr id="528" name="Six Degrees Part 2_WMV V9.wmv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60228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11574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914400" y="2209320"/>
            <a:ext cx="7772400" cy="41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f you had 100 friends and each friend had 100 friends and so on... what could be the maximum degree of separation between you and anyone in the world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at assumptions did you make in your calculation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ow many friends would each person need under these assumptions in order to have a maximum of six degrees of separation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05:56:21Z</dcterms:created>
  <dc:creator>Ray</dc:creator>
  <dc:description/>
  <dc:language>en-US</dc:language>
  <cp:lastModifiedBy>Ray</cp:lastModifiedBy>
  <dcterms:modified xsi:type="dcterms:W3CDTF">2017-03-10T03:43:04Z</dcterms:modified>
  <cp:revision>81</cp:revision>
  <dc:subject/>
  <dc:title>Six Degrees of Separation</dc:title>
</cp:coreProperties>
</file>